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503-C96B-4999-9617-CEA9A09C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49E5-D7EF-4CE3-9C27-4E33C09C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CF1-746D-4398-9D2B-5CF9BC4B1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C156-C589-4B0F-81BF-1F02DF07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EF77-D64F-491F-A551-C142EE70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2614-CFD3-4FE1-B739-C72A62D5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856-B038-4FD9-AB4E-64CAD1B8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BC6-5FCF-4996-A4A0-B6B73A2C4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F8FE-2CD9-46F1-B95B-E2C5BF1A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5386-4366-4836-9078-AEBDA9C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D97-C0BE-4FFF-922A-38A6DEE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295-F1BC-478D-9E67-3242B2DC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930-EA16-478A-8F3C-60D6B0E1D0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paso del espa</a:t>
            </a: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ñol 5to.</a:t>
            </a:r>
            <a:br>
              <a:rPr sz="4400"/>
            </a:b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ecciones 1 a 3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ocabulario y gramática import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 famili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You should remember the basic family members from last ye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adre….la madre….los pad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abuelo…la abuela…los abuel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hijo….la hija….los hij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hermano….la hermana…los herman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gato….el perro….las masco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Géne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ender is assigned to all nouns in Spa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ords that are masculinas are easily identified by the last letter of O. These words are preceded by the definite article  EL (th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Words that are femeninas are easily identified by the last letter of A. These words are preceded by the definite article LA (th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word is considered either masculina or femenina by it´s last letter and this has NOTHING to do with the person who has the item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words that end in a conosonante can be either masculina or femenina….they must be memoriz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words are RULE BREAKERS and are the opposite género of what you may think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ample….La mano….La comunidad (all ¨dad¨ words are femenina)…el problema (all ¨ma¨words are masculin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Práctica con el géner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Tell whether the following words are masculina o femenina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icic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rag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lu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b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Cognad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 Cognado is a word that looks and sounds like what it means in the other langu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 common congnados in español are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ot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lev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i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ntelig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ru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part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dic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member! When in doubt…ask yourself if it could be a cognado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os Saludo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aludos are greetings in españ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ommon saludos includ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o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os dí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as tar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Buenas no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é 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Preguntas típic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metimes a question will logically follow a greeting. Here are some examples of logical question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Qué pas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Qué t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te llam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se llama él o ell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uántos años tien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Dónde viv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De dónde eres – 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Cómo se escrib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¿Y tú or Y Ud.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s respuest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ere are some logical responses to your basic question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ucho gu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cantado o encant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un plac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e lla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engo….añ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ivo en…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Soy de…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Èl o ella se llama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cribe c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Las despedid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spedidas are goodbyes in españ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dió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lue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mañ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asta ento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os ve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ha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ffff"/>
                </a:solidFill>
                <a:latin typeface="Arial"/>
              </a:rPr>
              <a:t>El plural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king words plural in español is very easy. Simply follow these ru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f the noun ends in a VOWEL, simply add 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f the noun ends in a CONSONANT, simply add 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metimes there is an additional spelling change that has to happen before you add the S or ES, but we´ll learn those separ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When making a noun plural, you must also make the definite article that precedes it plural. Therefore EL changes to LOS, and LA changes to L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3T19:44:50Z</dcterms:created>
  <dc:creator>Heidi Peckens</dc:creator>
  <dc:description/>
  <dc:language>en-US</dc:language>
  <cp:lastModifiedBy>Heidi Peckens</cp:lastModifiedBy>
  <dcterms:modified xsi:type="dcterms:W3CDTF">2009-08-13T20:20:26Z</dcterms:modified>
  <cp:revision>3</cp:revision>
  <dc:subject/>
  <dc:title>Repaso del español 5to.</dc:title>
</cp:coreProperties>
</file>